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BE3-05F4-4B9E-ABAE-EF081F7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831-0F8B-4EA4-A4AC-67B0906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EB0-C4A3-45FA-AEA3-A91DE9BE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69A-39BF-4711-9A17-B8EAF98E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8D1-4176-463C-AAA8-A149A05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EF3-9C35-4344-BB8A-AA8225A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4B9-A20A-47E7-8664-9538709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383-5254-4B13-9980-4E6608F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669-67AD-4C05-B51A-3DD2FCB5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879-630B-4668-8A8E-416AC05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15B-6FC2-459B-BBB5-5A330FE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520-BDD7-41E7-AC7D-4F3F7DD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b624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A4C-1F10-49E9-A7AF-65A6DBC2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he Battle of Fredericksbu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Paige Cooley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E:\ConfederateBattleRect.jpg"/>
          <p:cNvPicPr/>
          <p:nvPr/>
        </p:nvPicPr>
        <p:blipFill>
          <a:blip r:embed="rId1"/>
          <a:stretch/>
        </p:blipFill>
        <p:spPr>
          <a:xfrm>
            <a:off x="3276720" y="685800"/>
            <a:ext cx="2438280" cy="149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ember- December 18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Commander Ambrose E. Burnside plans to take Rich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derate Commander Robert E. Lee stations his troops in Fredericksburg and Stonewall Jackson’s troops fo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side’s plan – use superior numbers to drive through Fredericks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bridge builders couldn’t complete the pontoons because of Confederate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rnside orders troops to use the pontoon boats to secure the other side of the river – first opposed river crossing in American military his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on successfully crossed the 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 12, Burnside pushed all his troops across the pontoon brid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04920" y="618336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ivilwar.org/battlefields/fredericksbur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spect Hill and Slaughter Pen Farm 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cember 13, 18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John Pelham advanced one of his guns which delayed an entire Union Corps and prematurely revealed the Union’s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early an hour, the Union forces attacked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on troops sneak through a vulnerable spot in Jackson’s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on advances but is pushed back by Jackson’s tr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federate’s took over the railroad embank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E:\slaughter-pen-farm.jpg"/>
          <p:cNvPicPr/>
          <p:nvPr/>
        </p:nvPicPr>
        <p:blipFill>
          <a:blip r:embed="rId1"/>
          <a:stretch/>
        </p:blipFill>
        <p:spPr>
          <a:xfrm>
            <a:off x="5181480" y="2819520"/>
            <a:ext cx="358164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41960" y="54468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ughter Pen Farm looking towards Prospect Hi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52280" y="633564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ivilwar.org/battlefields/fredericksburg/fredericksburg-history-articles/fredericksburgoreill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ye’s Heights Fight – December 13, 186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ederate troops were on top of Marye’s heights and the Union troops had to cross an open field and mill 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on sent brigade after brigade and each one fai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on had to continue to send regiments because the plan demanded that pressure on the Confederate 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k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000 determined Rebels held back an entire army and there were only 1000 Confederate casua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the cover of nightfall and rain, Burnside and troops slipped back to the Nor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E:\ambrose-burnside.jpg"/>
          <p:cNvPicPr/>
          <p:nvPr/>
        </p:nvPicPr>
        <p:blipFill>
          <a:blip r:embed="rId1"/>
          <a:stretch/>
        </p:blipFill>
        <p:spPr>
          <a:xfrm>
            <a:off x="6095880" y="2057400"/>
            <a:ext cx="2505240" cy="330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172200" y="5318280"/>
            <a:ext cx="23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rose E. Bur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28600" y="633564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ivilwar.org/battlefields/fredericksburg/fredericksburg-history-articles/fredericksburgoreill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Battle of Fredericksburg</a:t>
            </a:r>
            <a:br>
              <a:rPr sz="44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Confederate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 Ambrose E. Bur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7,000 tr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00 casua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ed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 Robert E.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 tr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500 casua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6095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ivilwar.org/battlefields/fredericksburg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2:21:30Z</dcterms:created>
  <dc:creator>Tracy</dc:creator>
  <dc:description/>
  <dc:language>en-US</dc:language>
  <cp:lastModifiedBy>Labc105-01</cp:lastModifiedBy>
  <dcterms:modified xsi:type="dcterms:W3CDTF">2011-09-13T15:12:47Z</dcterms:modified>
  <cp:revision>5</cp:revision>
  <dc:subject/>
  <dc:title>The Battle of Fredericksburg</dc:title>
</cp:coreProperties>
</file>